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58BC-B06C-4858-BCF2-91366B05D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67EC-3251-4A0A-8530-42E07DF71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853F-527A-4901-B3FD-1633B8066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A667-AF9F-485C-A9E7-318F33577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02E0C-5024-4ADE-AAC4-35A26A3AE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8C0D4-0F56-4467-9A69-1C4484632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33A1F-3E7F-4185-90B2-704FBEBA6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7BD7D-4F5C-462A-8759-F3C7C62F7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ADE04-7163-45A5-B3EB-5FD4622DC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A8197-FCC7-434B-9C1F-DE4166388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05FE7-4790-425D-B6A2-598D44EE1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7BDB-9302-4354-98A9-AE09E37D3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4C3FC-69A9-47AF-8BCB-2F271BFF7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E1DFA-225D-4F6B-975C-EC27CCB7B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6EB87-F032-4C15-950F-EABABB9F1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1FDD1-5316-4E3A-BE20-3D2F20A11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B67CF-6A15-4B15-A3A7-09CEF53D8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9AA6-198C-47A5-95A7-2503D669D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6052-9323-49EA-A43A-C7110F74B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0426-C272-42E0-81E6-6A07B7861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6FC3-1619-427B-B3C7-C9ABE132F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8EB1-A6B4-4390-B3DA-93A4DDEEC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0515-F51A-4252-89EA-1303EA009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F60B-F7CD-4894-82A0-FFC8ED79C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ece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eceaa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1afb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91afb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0c0c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9fcad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7BCB7-6644-4219-82C8-A5AF2DFD28B6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ecea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eceaa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440" cy="474840"/>
              <a:chOff x="417600" y="2968560"/>
              <a:chExt cx="73944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8400" y="2968560"/>
                <a:ext cx="368640" cy="474840"/>
              </a:xfrm>
              <a:prstGeom prst="rect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1afb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91afb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0c0c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9fcad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EBECB-20B4-4256-A4BA-39D55A9BDF90}" type="slidenum">
              <a:rPr b="0" lang="ru-RU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151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15f7b"/>
                </a:solidFill>
                <a:latin typeface="Tahoma"/>
              </a:rPr>
              <a:t>Планируемые объемы </a:t>
            </a:r>
            <a:r>
              <a:rPr b="0" lang="ru-RU" sz="2000" spc="-1" strike="noStrike">
                <a:solidFill>
                  <a:srgbClr val="515f7b"/>
                </a:solidFill>
                <a:latin typeface="Tahoma"/>
              </a:rPr>
              <a:t>оказания государственных услуг и объемы </a:t>
            </a:r>
            <a:r>
              <a:rPr b="0" lang="ru-RU" sz="2000" spc="-1" strike="noStrike">
                <a:solidFill>
                  <a:srgbClr val="515f7b"/>
                </a:solidFill>
                <a:latin typeface="Tahoma"/>
              </a:rPr>
              <a:t>субсидий государственным бюджетным учреждениям на финансовое обеспечение государственных заданий на оказание государственных услуг</a:t>
            </a:r>
            <a:br>
              <a:rPr sz="2000"/>
            </a:br>
            <a:r>
              <a:rPr b="0" lang="ru-RU" sz="2000" spc="-1" strike="noStrike">
                <a:solidFill>
                  <a:srgbClr val="515f7b"/>
                </a:solidFill>
                <a:latin typeface="Tahoma"/>
              </a:rPr>
              <a:t>на 2019 год и плановый период 2020 и 2021 годов</a:t>
            </a:r>
            <a:endParaRPr b="0" lang="en-US" sz="2000" spc="-1" strike="noStrike">
              <a:solidFill>
                <a:srgbClr val="515f7b"/>
              </a:solidFill>
              <a:latin typeface="Tahoma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395280" y="2205000"/>
          <a:ext cx="8424720" cy="4476960"/>
        </p:xfrm>
        <a:graphic>
          <a:graphicData uri="http://schemas.openxmlformats.org/drawingml/2006/table">
            <a:tbl>
              <a:tblPr/>
              <a:tblGrid>
                <a:gridCol w="3097080"/>
                <a:gridCol w="863640"/>
                <a:gridCol w="863640"/>
                <a:gridCol w="863640"/>
                <a:gridCol w="912960"/>
                <a:gridCol w="911160"/>
                <a:gridCol w="912600"/>
              </a:tblGrid>
              <a:tr h="1044720">
                <a:tc row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услу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ъемы оказания государственных услу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чел.)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нируемые объемы субсидий на финансовое обеспечение государственных заданий на оказание государственных услуг (тыс.рублей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3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2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ализация основных общеобразовательных программ основного и среднего общего образования, интегрированных с дополнительными общеразвивающими программами, имеющими целью подготовку несовершеннолетних обучающихся к военной или иной государственной службе, в том числе к государственной службе российского казачеств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6 014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3 196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8 043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ализация основных профессиональных образовательных программ среднего профессионального образ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4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4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4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3 121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5 770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7 280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15640" y="404280"/>
            <a:ext cx="7792920" cy="83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15f7b"/>
                </a:solidFill>
                <a:latin typeface="Tahoma"/>
              </a:rPr>
              <a:t>Расчеты и результаты оценки потребности в услугах социальной сферы</a:t>
            </a:r>
            <a:br>
              <a:rPr sz="2000"/>
            </a:br>
            <a:r>
              <a:rPr b="0" lang="ru-RU" sz="2000" spc="-1" strike="noStrike">
                <a:solidFill>
                  <a:srgbClr val="515f7b"/>
                </a:solidFill>
                <a:latin typeface="Tahoma"/>
              </a:rPr>
              <a:t>на 2019 год и плановый период 2020 и 2021 годов</a:t>
            </a:r>
            <a:endParaRPr b="0" lang="en-US" sz="2000" spc="-1" strike="noStrike">
              <a:solidFill>
                <a:srgbClr val="515f7b"/>
              </a:solidFill>
              <a:latin typeface="Tahoma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324000" y="2160720"/>
          <a:ext cx="8424720" cy="4071960"/>
        </p:xfrm>
        <a:graphic>
          <a:graphicData uri="http://schemas.openxmlformats.org/drawingml/2006/table">
            <a:tbl>
              <a:tblPr/>
              <a:tblGrid>
                <a:gridCol w="2806560"/>
                <a:gridCol w="3602160"/>
                <a:gridCol w="671400"/>
                <a:gridCol w="673200"/>
                <a:gridCol w="671400"/>
              </a:tblGrid>
              <a:tr h="456840">
                <a:tc row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услу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счет результатов потребности в услугах социальной сфер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зультаты потребности в услуга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2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ализация основных общеобразовательных программ основного и среднего общего образования, интегрированных с дополнительными общеразвивающими программами, имеющими целью подготовку несовершеннолетних обучающихся к военной или иной государственной службе, в том числе к государственной службе российского казачеств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 основе мониторинга исполнения государственных заданий за 2018 год с учетом плановой мощности и потребности в услуга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44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ализация основных профессиональных образовательных программ среднего профессионального образ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ходя из планового среднегодового количества обучающихся и на основе предложений по контрольным цифрам приема на обучение по программам среднего профессионального образ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4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4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4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87280" y="404280"/>
            <a:ext cx="7793280" cy="83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15f7b"/>
                </a:solidFill>
                <a:latin typeface="Tahoma"/>
              </a:rPr>
              <a:t>Сведения о расходах с учетом интересов целевых групп</a:t>
            </a:r>
            <a:br>
              <a:rPr sz="2000"/>
            </a:br>
            <a:r>
              <a:rPr b="0" lang="ru-RU" sz="2000" spc="-1" strike="noStrike">
                <a:solidFill>
                  <a:srgbClr val="515f7b"/>
                </a:solidFill>
                <a:latin typeface="Tahoma"/>
              </a:rPr>
              <a:t>на 2019 год и плановый период 2020 и 2021 годов</a:t>
            </a:r>
            <a:endParaRPr b="0" lang="en-US" sz="2000" spc="-1" strike="noStrike">
              <a:solidFill>
                <a:srgbClr val="515f7b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250920" y="1700280"/>
          <a:ext cx="8642160" cy="5037120"/>
        </p:xfrm>
        <a:graphic>
          <a:graphicData uri="http://schemas.openxmlformats.org/drawingml/2006/table">
            <a:tbl>
              <a:tblPr/>
              <a:tblGrid>
                <a:gridCol w="2160360"/>
                <a:gridCol w="1800360"/>
                <a:gridCol w="696960"/>
                <a:gridCol w="695160"/>
                <a:gridCol w="696960"/>
                <a:gridCol w="863640"/>
                <a:gridCol w="865080"/>
                <a:gridCol w="863640"/>
              </a:tblGrid>
              <a:tr h="639360">
                <a:tc row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Целевая групп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ры государственной поддерж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енност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ь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ставителей целевой групп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нируемый объем расходов на поддержку целевой группы (тыс.рублей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ети-сиро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циальная поддерж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 547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 559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 573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учающиеся государственных бюджетных общеобразовательных учреждений, за исключением детей-сиро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еспечение питание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7 379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7 379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7 379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еспечение мягким инвентарем и средствами личной гигиен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443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443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443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учающиеся государственных бюджетных общеобразовательных учрежде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еспечение одеждой и обувью (форменное обмундирование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 318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 318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 318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 rowSpan="4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учающиеся государственных бюджетных профессиональных учреждений среднего профессионального образ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ипендия академическ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2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2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2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 677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069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457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ипендия социальн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236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287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336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еспечение питание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2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2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2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 211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 211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 211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еспечение форменным обмундирование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3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3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3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878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878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878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25T07:33:38Z</dcterms:created>
  <dc:creator>cossacks</dc:creator>
  <dc:description/>
  <dc:language>en-US</dc:language>
  <cp:lastModifiedBy>Мережко Марина Мирославна</cp:lastModifiedBy>
  <cp:lastPrinted>2018-11-08T14:44:36Z</cp:lastPrinted>
  <dcterms:modified xsi:type="dcterms:W3CDTF">2018-11-09T11:52:53Z</dcterms:modified>
  <cp:revision>119</cp:revision>
  <dc:subject/>
  <dc:title>Расчеты и результаты оценки потребности в услугах социальной сферы на  2015 – 2019 годы</dc:title>
</cp:coreProperties>
</file>